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AF6-4C08-4093-890C-05F93188F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2O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.12H5.15N2.1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  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d x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4H5N2O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8H10N4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2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4.0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1C1H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2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H4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H6 molecular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X   Cl1C1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 Cl2C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H12O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 mole of CO2 there is 1 mole of carbon and 2 mole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molecule of CO2 there is 1 atom of C and 2 atoms of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.22H16.09N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H5N1 i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.4O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1O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017-49BE-4A2F-AFA2-0A32DC03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94E-8785-4235-9693-156C5A1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022-CB02-466A-822A-D1E2FC9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CF1-BDD0-4D98-B066-C1B7D1F4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810-C114-4B3B-9FFE-D162620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EEF-2A53-435F-9D80-42D58000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87E-6918-44D4-BF32-2FAEBAA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9C2-5896-4907-BC24-74E196AD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C25-8D84-4B8C-8A1B-4F74347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00C-7F9E-4090-8B11-3CD58056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94B-B966-4420-8DF1-0317CC0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D65-7ABC-4C81-ACEF-6FD24354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3FD9-E31B-4B27-AA42-495FFA1C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ercentage to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20400" y="22860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77960" y="23623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9160" y="2301840"/>
            <a:ext cx="1500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is 49.48% C, 5.15% H, 28.87% N and 16.49% O. What is its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198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.48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5 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87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49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38280" y="990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09680" y="25909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286000" y="40384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2362320" y="541008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9"/>
          <p:cNvSpPr/>
          <p:nvPr/>
        </p:nvSpPr>
        <p:spPr>
          <a:xfrm>
            <a:off x="3796560" y="120816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4.1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660120" y="289548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660120" y="43434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.2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583800" y="5715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094800" y="4267080"/>
            <a:ext cx="262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they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 to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w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024600" y="1143000"/>
            <a:ext cx="288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1mol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at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n’t 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117880" y="42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86000" y="289548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.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110760" y="5322960"/>
            <a:ext cx="36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mass = 97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109960" y="4038480"/>
            <a:ext cx="289188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 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irical to mole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empirical formula is the lowest ratio the actual molecule would weigh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 whole number multi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ctual molar mass by the mass of one mole of the empir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ffeine has a molar mass of 194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nd x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814480" y="1371600"/>
                <a:ext cx="4581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4283640" y="3151080"/>
            <a:ext cx="148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7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3886200" y="3809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15360" y="349416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53680" y="4648320"/>
            <a:ext cx="2055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352680" y="567684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90720" y="46641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known to be composed of 71.65 % Cl, 24.27% C and 4.07% H. Its molar mass is known (from gas density) is known to be 98.96 g. What is its molecular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.65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27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07 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56000" y="1295280"/>
                <a:ext cx="12571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2209680" y="3276720"/>
                <a:ext cx="1035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133720" y="5029200"/>
                <a:ext cx="1035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Text Box 7"/>
          <p:cNvSpPr/>
          <p:nvPr/>
        </p:nvSpPr>
        <p:spPr>
          <a:xfrm>
            <a:off x="4176720" y="16653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735360" y="345456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659040" y="5359320"/>
            <a:ext cx="15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0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46160" y="49528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572000" y="18288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divide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st (2m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0880" y="29718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68160" y="38527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6160" y="2438280"/>
            <a:ext cx="8216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molar mass is known (from gas densit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known to be 98.96 g. What is its mole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80880" y="457200"/>
            <a:ext cx="8763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8160" y="1338120"/>
            <a:ext cx="81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uld give an empirical wt of 48.5g/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0" y="4799160"/>
                <a:ext cx="4267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ol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mpiric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mu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1"/>
              <p:cNvSpPr txBox="1"/>
              <p:nvPr/>
            </p:nvSpPr>
            <p:spPr>
              <a:xfrm>
                <a:off x="4800600" y="4495680"/>
                <a:ext cx="21589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6936120" y="4908600"/>
            <a:ext cx="7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345200" y="51055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west whole number ratio of elements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lecular formula the actual ratio of elements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can be the s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ar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57600" y="2590920"/>
            <a:ext cx="3560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X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072320" y="3657600"/>
            <a:ext cx="2238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d the lowest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just the ratio of atoms, it is also the ratio of moles of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 mo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1 mole of carbon and 2 moles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molecule of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 is 1 atom of C and 2 atoms of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Empir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 that you have a 100 gram sample of the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change the % to 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grams to mols for each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number of mols as a subscript in a chemical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number by the least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result to get rid of any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mpirical formula of a compound composed of 38.67 % C, 16.22 % H, and 45.11 %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100 g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.67 g C  x   1mol C      = 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01 g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22 g H x   1mol H      = 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1 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.11 g N  x   1mol N    = 3.219 mole 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01 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3276720" y="385776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76720" y="4848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252960" y="58482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20 mole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09 mole 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19 mol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05120" y="3886200"/>
            <a:ext cx="533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16.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3.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03840" y="51814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we divide all of these by the small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It will give us the empirical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 flipV="1">
            <a:off x="3505320" y="4647960"/>
            <a:ext cx="3581280" cy="6858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3.220 mol C  = 1 mol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16.09 mol H  = 5 mol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3.219 molN      1 mol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mpirical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is 43.64 % P and 56.36 % O. What is the empiric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024360" y="180972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6072120" y="1828440"/>
            <a:ext cx="154800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976480" y="2833560"/>
            <a:ext cx="253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24600" y="2852640"/>
            <a:ext cx="154764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.6 g P x   1mol P      = 1.4 mole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0.97 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36 g O  x   1mol O    = 3.5 mole 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16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124080" y="2133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276720" y="3200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971800" y="4495680"/>
            <a:ext cx="172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both by the lowes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io is  3.52 mol O  = 2.5 mol 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.42 mol P      1 mol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819520" y="1981080"/>
            <a:ext cx="1981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27672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5638680" y="373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553920" y="5029200"/>
            <a:ext cx="134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21:28:05Z</dcterms:created>
  <dc:creator>gpurdum</dc:creator>
  <dc:description/>
  <dc:language>en-US</dc:language>
  <cp:lastModifiedBy>RomaK</cp:lastModifiedBy>
  <dcterms:modified xsi:type="dcterms:W3CDTF">2015-09-01T16:23:42Z</dcterms:modified>
  <cp:revision>14</cp:revision>
  <dc:subject/>
  <dc:title>Empirical Formula</dc:title>
</cp:coreProperties>
</file>